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1C5-846E-4A44-8BD7-44FC3DEC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463-C914-4FF3-9F80-A60F4F7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9E0-A7FA-4CB1-BBE2-70668BFE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CC4-E7E0-4454-A0B0-D83CB720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55E5-751C-446E-85BC-BA6AF2B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CA0-EAFD-406A-970A-87595DB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18F-6DBE-4E5B-ABFA-63FBC51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A04-AB70-4A90-A039-5EAD1F6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1698-9E96-41C8-ADF0-AF56481F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F82E-E12E-4BFE-A4AF-261C650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7DD8-A7DF-423D-BC73-822199E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C8D-DD4F-40A0-B7CD-008EA6CC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D186-12B6-4C39-BD5D-EE8BE56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5BC-836E-45C5-BCB6-0B06217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1E7F-BBE8-4DA2-8757-BF0721A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8C13-76F6-4DD5-9068-B9CEE729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13AB-4D8D-46D6-A5BF-B914DC33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09CC8-3B3E-4BDC-98CE-C0CBAA5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997CC-BA2E-4E2C-BE7B-DE8477E7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AC436-FA28-4486-9942-D12DC3D4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EA8FD-E9BA-411A-9141-8807647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96998-67AD-472C-9161-E4A3596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F4C-102E-41B6-A740-7A9510A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5FD43-B752-465C-A211-774ECF2F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6F745-C303-4F55-8D2F-BE4C3E9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5B391-53E9-402D-BEDE-058997A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908D1-FD98-4D7D-A329-44FAC3B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66700-79BD-459B-9476-559FED0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26561-A508-4EF6-A94B-3BDAF5D8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130C8-141E-4D8B-A48C-71EFD2C4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A305-9B43-4839-AF96-689B5BF5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5212-8D8D-43CC-99D0-D6D3F06F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25CF-4E2F-4EB0-AC4B-CC787AA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A1F-F483-49C6-A4CE-2054954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D60F-2DD6-4EAD-B38C-D228BB95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E1A3-643C-4AD2-AC1E-0C7EA553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2869-4F2E-4423-88EB-AF7A062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35B3-3097-4299-823B-614A9AB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A3B3-7A28-41F9-8717-6BA6A4B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3C66-7B1A-42EA-BDDE-53DD9F0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18C8-ACCC-4925-9F3A-7B2212D8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BFC8-A16E-470B-A39E-80666D96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2600-1DEF-45C0-A91B-E06A11A7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DB6-65BB-4358-8EE1-719F6B0B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B75-B78E-443A-BD6D-20D7BC0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C67-F823-4EA0-BF2B-422168F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8A3-5C33-4FBC-A550-4FAEBE4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92D-1E11-4DB6-814F-A022D985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629640" y="-360"/>
            <a:ext cx="11619360" cy="7908120"/>
            <a:chOff x="-629640" y="-360"/>
            <a:chExt cx="11619360" cy="7908120"/>
          </a:xfrm>
        </p:grpSpPr>
        <p:grpSp>
          <p:nvGrpSpPr>
            <p:cNvPr id="1" name="Group 44"/>
            <p:cNvGrpSpPr/>
            <p:nvPr/>
          </p:nvGrpSpPr>
          <p:grpSpPr>
            <a:xfrm>
              <a:off x="86760" y="-360"/>
              <a:ext cx="10159200" cy="7620480"/>
              <a:chOff x="86760" y="-360"/>
              <a:chExt cx="10159200" cy="76204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6760" y="0"/>
                <a:ext cx="2793600" cy="7620120"/>
                <a:chOff x="86760" y="0"/>
                <a:chExt cx="2793600" cy="762012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1102680" y="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867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40560" y="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56560" y="0"/>
                <a:ext cx="2793600" cy="7620120"/>
                <a:chOff x="556560" y="0"/>
                <a:chExt cx="2793600" cy="762012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572480" y="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565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810360" y="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7452360" y="-360"/>
                <a:ext cx="2793600" cy="7620120"/>
                <a:chOff x="7452360" y="-360"/>
                <a:chExt cx="2793600" cy="762012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7452360" y="-36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973800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9145800" y="-36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4319640" y="0"/>
                <a:ext cx="31323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330372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557880" y="0"/>
                <a:ext cx="8463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73440" y="5594760"/>
              <a:ext cx="1015920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73440" y="3853080"/>
              <a:ext cx="1015920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60120" y="6267600"/>
              <a:ext cx="333792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73440" y="5871960"/>
              <a:ext cx="1015920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461680" y="5702400"/>
              <a:ext cx="775764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414960" y="3176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4219200" y="45842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4230000" y="17690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394080" y="3614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5044680" y="598140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3768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13400" y="6002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45080" y="316620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949320" y="45842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764360" y="60130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785240" y="3176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970560" y="173736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7648200" y="46054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8473680" y="60238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8473680" y="31870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9315000" y="4506480"/>
              <a:ext cx="138132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9315360" y="1679040"/>
              <a:ext cx="137952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507960" y="369720"/>
            <a:ext cx="9144000" cy="6874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5067360" y="-23760"/>
            <a:ext cx="4089240" cy="77616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157720" y="6501960"/>
            <a:ext cx="389088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25E3-A80C-4EA1-81C5-8AD19F402ED9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84" name="Group 44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5165640" y="-23760"/>
            <a:ext cx="3894120" cy="25700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5265720" y="1685520"/>
            <a:ext cx="2370240" cy="833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892840" y="6354360"/>
            <a:ext cx="31464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5165280" y="6354360"/>
            <a:ext cx="714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8C4-92E1-4AAA-8A8D-FF3615F11850}" type="slidenum">
              <a:rPr b="0" lang="en-US" sz="13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168" name="Group 61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1006560" y="668160"/>
            <a:ext cx="3957480" cy="6277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A82-403A-49C1-998B-ED23BAC9C57B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5157720" y="6361200"/>
            <a:ext cx="388152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252" name="Group 61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1006560" y="668160"/>
            <a:ext cx="3957480" cy="627732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5157720" y="6361200"/>
            <a:ext cx="388152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20D-A21D-4825-96C3-112B04B9A5C0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makes a person rich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ngible riche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ved one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ntion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wing fire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angible riches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rk nigh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y in a family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ppy smile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rmth of a spiri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511200" y="5184720"/>
            <a:ext cx="3611520" cy="2316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5794200" y="5184720"/>
            <a:ext cx="2559240" cy="2435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http://mychinaconnection.com/wp-content/uploads/2010/12/christmas-carol-scrooge.jpg"/>
          <p:cNvPicPr/>
          <p:nvPr/>
        </p:nvPicPr>
        <p:blipFill>
          <a:blip r:embed="rId3"/>
          <a:stretch/>
        </p:blipFill>
        <p:spPr>
          <a:xfrm>
            <a:off x="7975440" y="533520"/>
            <a:ext cx="2087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shiba</cp:lastModifiedBy>
  <dcterms:modified xsi:type="dcterms:W3CDTF">2011-12-02T23:37:28Z</dcterms:modified>
  <cp:revision>2</cp:revision>
  <dc:subject/>
  <dc:title>PowerPoint Presentation</dc:title>
</cp:coreProperties>
</file>